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16E-8D4B-4E78-9116-547FF52E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E6F-8620-43C5-8BFF-A3DA6674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F4C-FE98-4054-8CFC-F5D43F8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32C-8D3E-42A6-99FC-473C7FE9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36E-046E-4D71-8192-A88A9DD1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5FE-0F14-4241-BDDC-BFE452E6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F4F-9592-4C45-AC5D-8A4814A8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8E6-2A63-4352-8F26-48E77D66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207-FAEE-4318-835B-59E88C84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083-F0D4-427F-96E2-14AF129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E77-E736-4BBE-98DC-6E0C09D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667-8BF2-492D-840A-1C30A48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79BA-7882-47E9-89D0-73E7AF5A337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emekt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hepimiz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ikişer çikolata dağıttı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afif bi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rüzgar gibi süzülü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Seni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estanını okud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rın tiyatroya gidiyoru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angimiz sevmedik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çılgınlar gib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önlü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hep seni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r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alnız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alacaksı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ünü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rind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edff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500" spc="-1" strike="noStrike">
                <a:solidFill>
                  <a:srgbClr val="ff0000"/>
                </a:solidFill>
                <a:latin typeface="Arial"/>
              </a:rPr>
              <a:t>Yerlerden yerlere atılmışım ben.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000000"/>
                </a:solidFill>
                <a:latin typeface="Arial"/>
              </a:rPr>
              <a:t>Türklüğe şan katacağız. 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ff0000"/>
                </a:solidFill>
                <a:latin typeface="Arial"/>
              </a:rPr>
              <a:t>Yine beni sevmeyeceksin. 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000000"/>
                </a:solidFill>
                <a:latin typeface="Arial"/>
              </a:rPr>
              <a:t>Yüce dağ başından aşırdın beni.</a:t>
            </a:r>
            <a:br>
              <a:rPr sz="4500"/>
            </a:br>
            <a:br>
              <a:rPr sz="4500"/>
            </a:br>
            <a:r>
              <a:rPr b="1" lang="tr-TR" sz="4500" spc="-1" strike="noStrike">
                <a:solidFill>
                  <a:srgbClr val="ff0000"/>
                </a:solidFill>
                <a:latin typeface="Arial"/>
              </a:rPr>
              <a:t>Gölün kıyısında yüzüyo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Şehitleri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 defter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az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Sınav kaygısı yaşatı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everim dağların yeşil göğsün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Mutfakta çalışırken elini kesmi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zimkile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alıkta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eldil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ikniğ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en 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elir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aberler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onlar mı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öyled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Haberi televizyondan mı duymuş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16:19Z</dcterms:modified>
  <cp:revision>96</cp:revision>
  <dc:subject/>
  <dc:title>KONU 1</dc:title>
</cp:coreProperties>
</file>